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emf" ContentType="image/x-emf"/>
  <Override PartName="/ppt/media/image4.jpeg" ContentType="image/jpeg"/>
  <Override PartName="/ppt/media/image9.pct" ContentType="image/x-pict"/>
  <Override PartName="/ppt/media/image5.emf" ContentType="image/x-emf"/>
  <Override PartName="/ppt/media/image6.jpeg" ContentType="image/jpeg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F184-F4A7-4A2A-AC96-955184C0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DDF-0948-40F2-864F-D95A13CA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D41-3CAB-460C-9173-B234B7E3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9282-E518-45C4-B8AB-31ADE435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AD4E-5D41-4C47-9D21-725ED7C9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99E8-2271-43A9-81D7-72BACBDD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0230-BA3D-4248-BEAA-76CBD7AD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3090-649A-4063-86B5-C8E57B91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0220-2F4E-45E5-9268-90A907C5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6E1D-5944-4C8A-8C85-86B335C3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CBAA-407A-4FF9-A45F-6DC29A85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799-F7B9-4732-8504-C49CE97F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C00B-FF3A-4A03-9EB4-986D3AC2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5247-C186-408C-877D-5814F4E6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9B64-BE59-487C-B82C-866BAF7B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D4D8-FAEC-4011-AE98-263875DE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9B81-E297-435B-BD4D-FFD97DCF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8B5-1FA8-40DA-8045-FA3EFC4E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56F-A97E-4DD9-B66E-B8B0858C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CF4-1CC6-49F6-A5AB-2A2985BF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AED-E987-4D8B-9AE5-EEC8E297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293B-133A-49EA-AE71-8F249668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904-7417-4D9A-BDED-0BA8F7CA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D20-AB1D-428B-AB94-A3F730BC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E7FB-77B0-43A4-8E6B-1368F21985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BBE5-ADC1-4726-A0BB-F2952E26C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e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e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emf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emf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e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effects of the anti-drug laws in the 1960s and 1970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ttany Smelt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09680" y="2514600"/>
            <a:ext cx="4648320" cy="28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SvtyTwo ITC TT-Bold"/>
              </a:rPr>
              <a:t>What were the effects of the anti-drug laws created in the 1960s and 1970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doni SvtyTwo ITC TT-Bold"/>
              </a:rPr>
              <a:t>Brittany Smelt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7086600" cy="3370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448240" y="3352680"/>
            <a:ext cx="739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</a:rPr>
              <a:t>070621_haight_hlg_3p.hlarg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73392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The Drug Culture of the 1960s and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495680"/>
            <a:ext cx="4038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Riding the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the influence of music and 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marijuana and psychedel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4495680"/>
            <a:ext cx="38102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out of the cities and into the subu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Summer of Love (19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Haight and Ashb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581280" y="4419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76720" y="6643800"/>
            <a:ext cx="41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i.realone.com/assets/rn/img/5/5/2/7/15287255-15287258-slarge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Government Efforts to Control the Use and Trafficking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85720"/>
            <a:ext cx="914400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doni SvtyTwo ITC TT-Book"/>
              </a:rPr>
              <a:t>1965: Drug Abuse Control Amendment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Government produces little acts or laws to handle drug abuse  in the 1960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release propaganda films in order to frighten society away from drug u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(Reefer Madn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outcome? BACKFIR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Bodoni SvtyTwo ITC TT-Book"/>
              </a:rPr>
              <a:t>1970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NORML is foun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Narcotics Treatment Administration is foun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doni SvtyTwo ITC TT-Book"/>
              </a:rPr>
              <a:t>197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Soldiers in Vietnam develop heroin addi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Nixon declares war on drug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doni SvtyTwo ITC TT-Book"/>
              </a:rPr>
              <a:t>197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The Office of Drug Abuse Law Enforcement is foun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doni SvtyTwo ITC TT-Book"/>
              </a:rPr>
              <a:t>197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Ford administration releases White Paper on Drug Abuse.(white paper meaning high population drug, but low risk exp. Marijua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Large cocaine seizure indicates significant growth of cocaine tr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Carter's drug czar, Dr. Peter Bourne does not view marijuana, or even cocaine, as a serious public health th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1979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Cocaine trade becomes increasingly viol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101200" y="4876920"/>
            <a:ext cx="336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%3Fq%3Danti-drug%2Blaws%26gbv%3D2%26hl%3Den%26s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%3D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The Effect of Government Anti-drug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1522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SvtyTwo ITC TT-Book"/>
              </a:rPr>
              <a:t>The Effects of Government Anti-drug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905120"/>
            <a:ext cx="40388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mocked, com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too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glamorized by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Cuban and Panama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coc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2540160" cy="4444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597360" y="59436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Carlos Leh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048120" y="44197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114800" y="3886200"/>
            <a:ext cx="18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Norman's 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19320" y="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SvtyTwo ITC TT-Book"/>
              </a:rPr>
              <a:t>1980s: King Pens and Coc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Miami's Dadeland Mall (1979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Rise of the Medellin cartel (1981 - 1982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U.S. and Colombia extradition treaty ratifi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(1981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Downfall of Norman's Cay (1982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Largest cocaine seizure ever: $100 mill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sum (Medellin cartel)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Nancy Reagan's "Just Say No" Mov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begin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Tranquilandia bust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791320" y="1219320"/>
            <a:ext cx="3020760" cy="4394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784480" y="5334120"/>
            <a:ext cx="319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chathamjournal.com/weekly/moxiepix/a2958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90920" y="3049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SvtyTwo ITC TT-Book"/>
              </a:rPr>
              <a:t>Has it changed y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07:56Z</dcterms:created>
  <dc:creator>PA Department of Education</dc:creator>
  <dc:description/>
  <dc:language>en-US</dc:language>
  <cp:lastModifiedBy>PA Department of Education</cp:lastModifiedBy>
  <dcterms:modified xsi:type="dcterms:W3CDTF">2008-05-29T13:58:18Z</dcterms:modified>
  <cp:revision>6</cp:revision>
  <dc:subject/>
  <dc:title>What were the effects of the anti-drug laws in the 1960s and 1970s?</dc:title>
</cp:coreProperties>
</file>